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1F2-1143-40A5-9DCF-90BA3E72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35A3-BA6A-4C01-B76D-92B6EA47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AE33-F082-4F2D-B47D-72D51609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BA1E-06A2-48EE-8C17-6347C29A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7331-E142-4593-A3A3-8D74DBC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8C9-D16A-4743-8EFE-0D9630C5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454-3649-4470-BE6F-258C443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D79-1985-422F-BCD2-9EA70575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AEC-EE5C-40F7-BD03-A68F792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D38-5413-4142-AC4E-C97AE4B0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74B-1D75-4055-85DC-4FE5007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886D-8132-499C-81A2-2106DB9E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C53F-3FD8-4B10-B031-0A1F47E31AB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ovéPole 7"/>
          <p:cNvSpPr/>
          <p:nvPr/>
        </p:nvSpPr>
        <p:spPr>
          <a:xfrm>
            <a:off x="674640" y="879480"/>
            <a:ext cx="3349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38160" bIns="38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MINISTERSTVO PRO MÍSTNÍ ROZVOJ </a:t>
            </a:r>
            <a:br>
              <a:rPr sz="1200"/>
            </a:b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rodní orgán pro koordina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rázek 9" descr="roh-01.png"/>
          <p:cNvPicPr/>
          <p:nvPr/>
        </p:nvPicPr>
        <p:blipFill>
          <a:blip r:embed="rId2"/>
          <a:stretch/>
        </p:blipFill>
        <p:spPr>
          <a:xfrm>
            <a:off x="5700600" y="0"/>
            <a:ext cx="3443400" cy="4484520"/>
          </a:xfrm>
          <a:prstGeom prst="rect">
            <a:avLst/>
          </a:prstGeom>
          <a:ln w="0">
            <a:noFill/>
          </a:ln>
        </p:spPr>
      </p:pic>
      <p:pic>
        <p:nvPicPr>
          <p:cNvPr id="43" name="Obrázek 12" descr="OPTP_CZ_RO_B_C-RGB.png"/>
          <p:cNvPicPr/>
          <p:nvPr/>
        </p:nvPicPr>
        <p:blipFill>
          <a:blip r:embed="rId3"/>
          <a:stretch/>
        </p:blipFill>
        <p:spPr>
          <a:xfrm>
            <a:off x="2897280" y="5819760"/>
            <a:ext cx="3349440" cy="752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74880" anchor="t">
            <a:no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34ea2"/>
                </a:solidFill>
                <a:latin typeface="Calibri"/>
              </a:rPr>
              <a:t>Martin Obuch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68360" y="2109960"/>
            <a:ext cx="7416720" cy="1690560"/>
          </a:xfrm>
          <a:prstGeom prst="rect">
            <a:avLst/>
          </a:prstGeom>
          <a:noFill/>
          <a:ln w="0">
            <a:noFill/>
          </a:ln>
        </p:spPr>
        <p:txBody>
          <a:bodyPr lIns="74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300" spc="-1" strike="noStrike">
                <a:solidFill>
                  <a:srgbClr val="034ea2"/>
                </a:solidFill>
                <a:latin typeface="Calibri"/>
              </a:rPr>
              <a:t>Ako sa nestratiť v preklade výsledkov hodnotenia do jazykov ostatných kmeňov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74880" rIns="11988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34ea2"/>
                </a:solidFill>
                <a:latin typeface="Calibri"/>
              </a:rPr>
              <a:t>24. říjen 201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743040" y="5959440"/>
            <a:ext cx="1085760" cy="449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 rot="16200000">
            <a:off x="-1962000" y="2728800"/>
            <a:ext cx="55454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ÝSLEDKY KOMUNIKÁCIE  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" descr="https://1.bp.blogspot.com/-xbsc62anhdA/XI3CHq538_I/AAAAAAAAhn0/Uw61X2hkdGgZMr0QmCZ7gwu9ZQm_EqFjQCLcBGAs/s1600/05-neandertais-e-humanos-primitivos-podem-ter-convivido-durante-milhares-de-anos-em-caverna-diferencas.jpg"/>
          <p:cNvPicPr/>
          <p:nvPr/>
        </p:nvPicPr>
        <p:blipFill>
          <a:blip r:embed="rId3"/>
          <a:stretch/>
        </p:blipFill>
        <p:spPr>
          <a:xfrm>
            <a:off x="2519280" y="1268280"/>
            <a:ext cx="4079880" cy="3273480"/>
          </a:xfrm>
          <a:prstGeom prst="rect">
            <a:avLst/>
          </a:prstGeom>
          <a:ln w="0">
            <a:noFill/>
          </a:ln>
        </p:spPr>
      </p:pic>
      <p:sp>
        <p:nvSpPr>
          <p:cNvPr id="156" name="TextBox 1"/>
          <p:cNvSpPr/>
          <p:nvPr/>
        </p:nvSpPr>
        <p:spPr>
          <a:xfrm>
            <a:off x="2519280" y="3876840"/>
            <a:ext cx="40798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pred 300 000 rok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1908000" y="4957920"/>
            <a:ext cx="57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Už vtedy rozhodla o prežití celého druhu schopnosť komunikácie a učenia s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IERARCHIA POZNATKOV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61" name="TextovéPole 5"/>
          <p:cNvSpPr/>
          <p:nvPr/>
        </p:nvSpPr>
        <p:spPr>
          <a:xfrm>
            <a:off x="1268280" y="1619280"/>
            <a:ext cx="776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informácie z rôznych zdrojov majú rôznu hodnotu a význam pre kmene a ich náčelníkov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ounded Rectangle 1"/>
          <p:cNvSpPr/>
          <p:nvPr/>
        </p:nvSpPr>
        <p:spPr>
          <a:xfrm>
            <a:off x="1908000" y="5618160"/>
            <a:ext cx="4967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1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logický, konzistentný a presvedčivý opis toho čo robíme a prečo je to dôlež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le 7"/>
          <p:cNvSpPr/>
          <p:nvPr/>
        </p:nvSpPr>
        <p:spPr>
          <a:xfrm>
            <a:off x="2340000" y="4773600"/>
            <a:ext cx="496872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údaje dokazujúce zmeny (pozitívne), ale bez spoľahlivého určenia príč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8"/>
          <p:cNvSpPr/>
          <p:nvPr/>
        </p:nvSpPr>
        <p:spPr>
          <a:xfrm>
            <a:off x="2843280" y="3916440"/>
            <a:ext cx="48974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3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preukázanie kauzality s využitím kontrolnej (porovnávacej ) skupi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9"/>
          <p:cNvSpPr/>
          <p:nvPr/>
        </p:nvSpPr>
        <p:spPr>
          <a:xfrm>
            <a:off x="3451320" y="3068640"/>
            <a:ext cx="4841640" cy="72072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4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minimálne jedno nezávislé hodnotenie potvrdzujúce závery ohľadom kauz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ounded Rectangle 10"/>
          <p:cNvSpPr/>
          <p:nvPr/>
        </p:nvSpPr>
        <p:spPr>
          <a:xfrm>
            <a:off x="4000680" y="2205000"/>
            <a:ext cx="4701960" cy="71928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5. </a:t>
            </a:r>
            <a:r>
              <a:rPr b="0" lang="sk-SK" sz="1800" spc="-1" strike="noStrike">
                <a:solidFill>
                  <a:srgbClr val="ffffff"/>
                </a:solidFill>
                <a:latin typeface="Calibri"/>
              </a:rPr>
              <a:t>štandardizované postupy pre zabezpečenie konzistentnej replikáci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5724360" y="644040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c000"/>
                </a:solidFill>
                <a:latin typeface="Arial"/>
              </a:rPr>
              <a:t>Zdroj: N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Round icon. Download flag icon of European Union at PNG format"/>
          <p:cNvPicPr/>
          <p:nvPr/>
        </p:nvPicPr>
        <p:blipFill>
          <a:blip r:embed="rId3"/>
          <a:stretch/>
        </p:blipFill>
        <p:spPr>
          <a:xfrm>
            <a:off x="720720" y="5618160"/>
            <a:ext cx="1095480" cy="822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Round icon. Download flag icon of European Union at PNG format"/>
          <p:cNvPicPr/>
          <p:nvPr/>
        </p:nvPicPr>
        <p:blipFill>
          <a:blip r:embed="rId4"/>
          <a:stretch/>
        </p:blipFill>
        <p:spPr>
          <a:xfrm>
            <a:off x="1244520" y="4773600"/>
            <a:ext cx="1095480" cy="8208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27160" y="4076640"/>
            <a:ext cx="625680" cy="469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Slovakia flag vector - free download"/>
          <p:cNvPicPr/>
          <p:nvPr/>
        </p:nvPicPr>
        <p:blipFill>
          <a:blip r:embed="rId6"/>
          <a:stretch/>
        </p:blipFill>
        <p:spPr>
          <a:xfrm>
            <a:off x="7451640" y="49100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Slovakia flag vector - free download"/>
          <p:cNvPicPr/>
          <p:nvPr/>
        </p:nvPicPr>
        <p:blipFill>
          <a:blip r:embed="rId7"/>
          <a:stretch/>
        </p:blipFill>
        <p:spPr>
          <a:xfrm>
            <a:off x="8020080" y="4243320"/>
            <a:ext cx="136440" cy="13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Slovakia flag vector - free download"/>
          <p:cNvPicPr/>
          <p:nvPr/>
        </p:nvPicPr>
        <p:blipFill>
          <a:blip r:embed="rId8"/>
          <a:stretch/>
        </p:blipFill>
        <p:spPr>
          <a:xfrm>
            <a:off x="7034040" y="5707080"/>
            <a:ext cx="547920" cy="54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Obrázek 12" descr="noc.jpg"/>
          <p:cNvPicPr/>
          <p:nvPr/>
        </p:nvPicPr>
        <p:blipFill>
          <a:blip r:embed="rId1"/>
          <a:stretch/>
        </p:blipFill>
        <p:spPr>
          <a:xfrm>
            <a:off x="-1763640" y="-674640"/>
            <a:ext cx="14760360" cy="91533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6200000">
            <a:off x="-1403280" y="2206440"/>
            <a:ext cx="442764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TYPICKÉ HODNOTENI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78" name="Rounded Rectangle 9"/>
          <p:cNvSpPr/>
          <p:nvPr/>
        </p:nvSpPr>
        <p:spPr>
          <a:xfrm>
            <a:off x="2452680" y="4214880"/>
            <a:ext cx="140796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6"/>
          <p:cNvCxnSpPr/>
          <p:nvPr/>
        </p:nvCxnSpPr>
        <p:spPr>
          <a:xfrm flipV="1">
            <a:off x="2410920" y="1124640"/>
            <a:ext cx="1080" cy="4033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80" name="Straight Arrow Connector 22"/>
          <p:cNvCxnSpPr/>
          <p:nvPr/>
        </p:nvCxnSpPr>
        <p:spPr>
          <a:xfrm flipV="1">
            <a:off x="2055600" y="4790880"/>
            <a:ext cx="6909480" cy="784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tailEnd len="med" type="arrow" w="med"/>
          </a:ln>
        </p:spPr>
      </p:cxnSp>
      <p:sp>
        <p:nvSpPr>
          <p:cNvPr id="181" name="Rounded Rectangle 25"/>
          <p:cNvSpPr/>
          <p:nvPr/>
        </p:nvSpPr>
        <p:spPr>
          <a:xfrm>
            <a:off x="3463920" y="3589200"/>
            <a:ext cx="290844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ber a spracovanie údaj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26"/>
          <p:cNvSpPr/>
          <p:nvPr/>
        </p:nvSpPr>
        <p:spPr>
          <a:xfrm>
            <a:off x="6012000" y="2924280"/>
            <a:ext cx="1800000" cy="57600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27"/>
          <p:cNvSpPr/>
          <p:nvPr/>
        </p:nvSpPr>
        <p:spPr>
          <a:xfrm>
            <a:off x="7451640" y="2225520"/>
            <a:ext cx="1513080" cy="576360"/>
          </a:xfrm>
          <a:prstGeom prst="roundRect">
            <a:avLst>
              <a:gd name="adj" fmla="val 16667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ff"/>
                </a:solidFill>
                <a:latin typeface="Calibri"/>
              </a:rPr>
              <a:t>Závery a     odporúč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4"/>
          <p:cNvSpPr/>
          <p:nvPr/>
        </p:nvSpPr>
        <p:spPr>
          <a:xfrm>
            <a:off x="4788000" y="50846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Realizácia hodnot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5"/>
          <p:cNvSpPr/>
          <p:nvPr/>
        </p:nvSpPr>
        <p:spPr>
          <a:xfrm rot="16200000">
            <a:off x="462960" y="295632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c000"/>
                </a:solidFill>
                <a:latin typeface="Arial"/>
              </a:rPr>
              <a:t>Význam pre komunikáci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2"/>
          <p:cNvSpPr/>
          <p:nvPr/>
        </p:nvSpPr>
        <p:spPr>
          <a:xfrm>
            <a:off x="1905120" y="5732640"/>
            <a:ext cx="705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A KOMUNIKÁCIU VÝSLEDKOV HODNOTENIA OSTÁVA NAJMENEJ ČA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O BRAŤ DO ÚVAH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90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znanie jazyka a kultúry kmeňov si vyžaduje dostatočný č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záverov a odporúčaní nie je jednorazový pro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asovanie ovplyvňuje prijatie správy (krátkodobé benefity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hodnotitelia často nedisponujú expertmi pre komunikáci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ovéPole 5"/>
          <p:cNvSpPr/>
          <p:nvPr/>
        </p:nvSpPr>
        <p:spPr>
          <a:xfrm>
            <a:off x="1384200" y="43657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či sa v kmeňoch vyvinul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a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kupina zberač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v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poznatkov (vs. lovci informácií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římá spojovací čára 14"/>
          <p:cNvSpPr/>
          <p:nvPr/>
        </p:nvSpPr>
        <p:spPr>
          <a:xfrm>
            <a:off x="1628640" y="436572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ovéPole 5"/>
          <p:cNvSpPr/>
          <p:nvPr/>
        </p:nvSpPr>
        <p:spPr>
          <a:xfrm>
            <a:off x="1415880" y="491796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   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efektívnu komunikáciu vedúcu k poznaniu potrebujeme stabili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římá spojovací čára 14"/>
          <p:cNvSpPr/>
          <p:nvPr/>
        </p:nvSpPr>
        <p:spPr>
          <a:xfrm>
            <a:off x="1616040" y="49179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A ZÁVER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5" name="TextovéPole 5"/>
          <p:cNvSpPr/>
          <p:nvPr/>
        </p:nvSpPr>
        <p:spPr>
          <a:xfrm>
            <a:off x="1262160" y="2332080"/>
            <a:ext cx="763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8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D NAMI STOJÍ SPOLOČNÁ VÝZVA: PRISPIEŤ K VYTVORENIU SPOLOČNEJ KULÚRY POZNANIA, KTORÁ BUDE DOSTATOČNE ATRAKTÍVNA PRE VŠETKY KMENE ŽIJÚCE NA NAŠOM ÚZEMÍ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Obrázek 7" descr="noc.jpg"/>
          <p:cNvPicPr/>
          <p:nvPr/>
        </p:nvPicPr>
        <p:blipFill>
          <a:blip r:embed="rId1"/>
          <a:stretch/>
        </p:blipFill>
        <p:spPr>
          <a:xfrm>
            <a:off x="-4645080" y="-2263680"/>
            <a:ext cx="14762160" cy="91519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417600" y="2565360"/>
            <a:ext cx="82818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4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ĎAKUJEM ZA VAŠU POZORNOSŤ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uch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@ca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www.ca-slovakia.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Obrázek 7" descr="noc.jpg"/>
          <p:cNvPicPr/>
          <p:nvPr/>
        </p:nvPicPr>
        <p:blipFill>
          <a:blip r:embed="rId1"/>
          <a:stretch/>
        </p:blipFill>
        <p:spPr>
          <a:xfrm>
            <a:off x="-2124000" y="-1035000"/>
            <a:ext cx="14760360" cy="9151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76200" y="3092040"/>
            <a:ext cx="878544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Je čas prejsť od komunikácie výsledkov hodnotenia k systematickému využívaniu poznatkov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ázek 12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rázek 5" descr="noc.jpg"/>
          <p:cNvPicPr/>
          <p:nvPr/>
        </p:nvPicPr>
        <p:blipFill>
          <a:blip r:embed="rId1"/>
          <a:stretch/>
        </p:blipFill>
        <p:spPr>
          <a:xfrm>
            <a:off x="-5618160" y="-316080"/>
            <a:ext cx="14762160" cy="9152280"/>
          </a:xfrm>
          <a:prstGeom prst="rect">
            <a:avLst/>
          </a:prstGeom>
          <a:ln w="0">
            <a:noFill/>
          </a:ln>
        </p:spPr>
      </p:pic>
      <p:sp>
        <p:nvSpPr>
          <p:cNvPr id="90" name="TextovéPole 11"/>
          <p:cNvSpPr/>
          <p:nvPr/>
        </p:nvSpPr>
        <p:spPr>
          <a:xfrm>
            <a:off x="861840" y="2781360"/>
            <a:ext cx="8282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1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Blízke a vzdialené kmene na území EŠ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2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 plyv prostredia na prenos sprá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3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Nie každá informácia má rovnakú hodno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4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omunikácia aj po hodnote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6200000">
            <a:off x="-1042920" y="1809360"/>
            <a:ext cx="37069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SA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ŽIJÚCE OKOLO NÁS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96" name="Flowchart: Connector 7"/>
          <p:cNvSpPr/>
          <p:nvPr/>
        </p:nvSpPr>
        <p:spPr>
          <a:xfrm>
            <a:off x="3851280" y="2060640"/>
            <a:ext cx="1476360" cy="1530360"/>
          </a:xfrm>
          <a:prstGeom prst="flowChartConnector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Riad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lowchart: Connector 8"/>
          <p:cNvSpPr/>
          <p:nvPr/>
        </p:nvSpPr>
        <p:spPr>
          <a:xfrm>
            <a:off x="1619280" y="2441520"/>
            <a:ext cx="2089080" cy="1979640"/>
          </a:xfrm>
          <a:prstGeom prst="flowChartConnector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Kont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lowchart: Connector 9"/>
          <p:cNvSpPr/>
          <p:nvPr/>
        </p:nvSpPr>
        <p:spPr>
          <a:xfrm>
            <a:off x="3149640" y="4456080"/>
            <a:ext cx="1206360" cy="1184400"/>
          </a:xfrm>
          <a:prstGeom prst="flowChartConnector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Monito-ro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lowchart: Connector 11"/>
          <p:cNvSpPr/>
          <p:nvPr/>
        </p:nvSpPr>
        <p:spPr>
          <a:xfrm>
            <a:off x="5267160" y="3308400"/>
            <a:ext cx="1079640" cy="102060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Publi-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lowchart: Connector 10"/>
          <p:cNvSpPr/>
          <p:nvPr/>
        </p:nvSpPr>
        <p:spPr>
          <a:xfrm>
            <a:off x="4811760" y="4413240"/>
            <a:ext cx="2352600" cy="2330640"/>
          </a:xfrm>
          <a:prstGeom prst="flowChartConnector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Implement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lowchart: Connector 12"/>
          <p:cNvSpPr/>
          <p:nvPr/>
        </p:nvSpPr>
        <p:spPr>
          <a:xfrm>
            <a:off x="6084720" y="1413000"/>
            <a:ext cx="1295640" cy="1295280"/>
          </a:xfrm>
          <a:prstGeom prst="flowChartConnector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7f7f7f"/>
                </a:solidFill>
                <a:latin typeface="Calibri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 rot="16200000">
            <a:off x="-1765800" y="2315160"/>
            <a:ext cx="478800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BLÍZKE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06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hyb kmeňa hodnotiteľov vzbudzuje záujem blízky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5"/>
          <p:cNvSpPr/>
          <p:nvPr/>
        </p:nvSpPr>
        <p:spPr>
          <a:xfrm>
            <a:off x="1246320" y="227808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môže vyprodukovať obmedzený počet  dôležitých zist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existujú členovia kmeňov na komunikáciu s hodnotiteľm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oločný jazyk ako podmienka porozumen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rázek 7" descr="noc.jpg"/>
          <p:cNvPicPr/>
          <p:nvPr/>
        </p:nvPicPr>
        <p:blipFill>
          <a:blip r:embed="rId1"/>
          <a:stretch/>
        </p:blipFill>
        <p:spPr>
          <a:xfrm>
            <a:off x="-4673520" y="-206388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6200000">
            <a:off x="-1909440" y="2458800"/>
            <a:ext cx="507528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 Z HODNOT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17" name="TextovéPole 5"/>
          <p:cNvSpPr/>
          <p:nvPr/>
        </p:nvSpPr>
        <p:spPr>
          <a:xfrm>
            <a:off x="1268280" y="1619280"/>
            <a:ext cx="787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nos správy ovplyvňuje prostredie, v ktorom prebieha komunikáci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5"/>
          <p:cNvSpPr/>
          <p:nvPr/>
        </p:nvSpPr>
        <p:spPr>
          <a:xfrm>
            <a:off x="1246320" y="2278080"/>
            <a:ext cx="828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mene, ktoré majú záujem učiť sa vytvárajú nízke, organické štruktú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ostredie vo väčšine blízkych kmeňov na Slovensku (v iných krajinách?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Výsledok vyhľadávania obrázkov pre dopyt leader graphic"/>
          <p:cNvPicPr/>
          <p:nvPr/>
        </p:nvPicPr>
        <p:blipFill>
          <a:blip r:embed="rId3"/>
          <a:stretch/>
        </p:blipFill>
        <p:spPr>
          <a:xfrm>
            <a:off x="5796000" y="3716280"/>
            <a:ext cx="3125880" cy="1743120"/>
          </a:xfrm>
          <a:prstGeom prst="rect">
            <a:avLst/>
          </a:prstGeom>
          <a:ln w="0">
            <a:noFill/>
          </a:ln>
        </p:spPr>
      </p:pic>
      <p:pic>
        <p:nvPicPr>
          <p:cNvPr id="124" name="Diagram 3" descr=""/>
          <p:cNvPicPr/>
          <p:nvPr/>
        </p:nvPicPr>
        <p:blipFill>
          <a:blip r:embed="rId4"/>
          <a:stretch/>
        </p:blipFill>
        <p:spPr>
          <a:xfrm>
            <a:off x="1474920" y="3706920"/>
            <a:ext cx="3822480" cy="1724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5803920" y="5459400"/>
            <a:ext cx="311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558ed5"/>
                </a:solidFill>
                <a:latin typeface="Arial"/>
              </a:rPr>
              <a:t>1 náčelník pre 4 člen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ZDIALENÉ KMENE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29" name="Flowchart: Connector 1"/>
          <p:cNvSpPr/>
          <p:nvPr/>
        </p:nvSpPr>
        <p:spPr>
          <a:xfrm>
            <a:off x="4211640" y="3800520"/>
            <a:ext cx="1008000" cy="100800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ffff"/>
                </a:solidFill>
                <a:latin typeface="Calibri"/>
              </a:rPr>
              <a:t>Evaluá-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owchart: Connector 14"/>
          <p:cNvSpPr/>
          <p:nvPr/>
        </p:nvSpPr>
        <p:spPr>
          <a:xfrm>
            <a:off x="1332000" y="1057320"/>
            <a:ext cx="1944720" cy="1843200"/>
          </a:xfrm>
          <a:prstGeom prst="flowChartConnector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Verejnos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lowchart: Connector 15"/>
          <p:cNvSpPr/>
          <p:nvPr/>
        </p:nvSpPr>
        <p:spPr>
          <a:xfrm>
            <a:off x="4245120" y="2314440"/>
            <a:ext cx="1295280" cy="1224000"/>
          </a:xfrm>
          <a:prstGeom prst="flowChartConnector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Calibri"/>
              </a:rPr>
              <a:t>Akade-mici</a:t>
            </a: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lowchart: Connector 16"/>
          <p:cNvSpPr/>
          <p:nvPr/>
        </p:nvSpPr>
        <p:spPr>
          <a:xfrm>
            <a:off x="1838160" y="4902120"/>
            <a:ext cx="1581480" cy="1473120"/>
          </a:xfrm>
          <a:prstGeom prst="flowChartConnector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Komis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lowchart: Connector 17"/>
          <p:cNvSpPr/>
          <p:nvPr/>
        </p:nvSpPr>
        <p:spPr>
          <a:xfrm>
            <a:off x="5940360" y="5300640"/>
            <a:ext cx="1359000" cy="1354320"/>
          </a:xfrm>
          <a:prstGeom prst="flowChartConnector">
            <a:avLst/>
          </a:prstGeom>
          <a:solidFill>
            <a:srgbClr val="fcc9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Poli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lowchart: Connector 18"/>
          <p:cNvSpPr/>
          <p:nvPr/>
        </p:nvSpPr>
        <p:spPr>
          <a:xfrm>
            <a:off x="6156360" y="3060720"/>
            <a:ext cx="1860480" cy="1747800"/>
          </a:xfrm>
          <a:prstGeom prst="flowChartConnector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alibri"/>
              </a:rPr>
              <a:t>Admini-stratí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Obrázek 5" descr="noc.jpg"/>
          <p:cNvPicPr/>
          <p:nvPr/>
        </p:nvPicPr>
        <p:blipFill>
          <a:blip r:embed="rId1"/>
          <a:stretch/>
        </p:blipFill>
        <p:spPr>
          <a:xfrm>
            <a:off x="-5508720" y="-13824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16200000">
            <a:off x="-1709640" y="2476080"/>
            <a:ext cx="504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REKÁŽKY PRI KOMUNIKÁCII </a:t>
            </a:r>
            <a:r>
              <a:rPr b="0" lang="en-US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https://pbs.twimg.com/media/DdOAR2qW4AABaE8.jpg"/>
          <p:cNvPicPr/>
          <p:nvPr/>
        </p:nvPicPr>
        <p:blipFill>
          <a:blip r:embed="rId3"/>
          <a:stretch/>
        </p:blipFill>
        <p:spPr>
          <a:xfrm>
            <a:off x="1547640" y="1673280"/>
            <a:ext cx="7296480" cy="4214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Slovakia flag vector - free download"/>
          <p:cNvPicPr/>
          <p:nvPr/>
        </p:nvPicPr>
        <p:blipFill>
          <a:blip r:embed="rId4"/>
          <a:stretch/>
        </p:blipFill>
        <p:spPr>
          <a:xfrm>
            <a:off x="6012000" y="167328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Round icon. Download flag icon of European Union at PNG format"/>
          <p:cNvPicPr/>
          <p:nvPr/>
        </p:nvPicPr>
        <p:blipFill>
          <a:blip r:embed="rId5"/>
          <a:stretch/>
        </p:blipFill>
        <p:spPr>
          <a:xfrm>
            <a:off x="2050920" y="1554120"/>
            <a:ext cx="2108160" cy="1581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rázek 7" descr="noc.jpg"/>
          <p:cNvPicPr/>
          <p:nvPr/>
        </p:nvPicPr>
        <p:blipFill>
          <a:blip r:embed="rId1"/>
          <a:stretch/>
        </p:blipFill>
        <p:spPr>
          <a:xfrm>
            <a:off x="-4662360" y="-2243160"/>
            <a:ext cx="14762160" cy="9151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 rot="16200000">
            <a:off x="-2162160" y="2711160"/>
            <a:ext cx="558036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SPRÁVY PRE VZDIALENÉ  KME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Obrázek 7" descr="logo biele.png"/>
          <p:cNvPicPr/>
          <p:nvPr/>
        </p:nvPicPr>
        <p:blipFill>
          <a:blip r:embed="rId2"/>
          <a:stretch/>
        </p:blipFill>
        <p:spPr>
          <a:xfrm>
            <a:off x="3708360" y="549360"/>
            <a:ext cx="1701720" cy="509400"/>
          </a:xfrm>
          <a:prstGeom prst="rect">
            <a:avLst/>
          </a:prstGeom>
          <a:ln w="0">
            <a:noFill/>
          </a:ln>
        </p:spPr>
      </p:pic>
      <p:sp>
        <p:nvSpPr>
          <p:cNvPr id="144" name="TextovéPole 5"/>
          <p:cNvSpPr/>
          <p:nvPr/>
        </p:nvSpPr>
        <p:spPr>
          <a:xfrm>
            <a:off x="1268280" y="161928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obmedzené možnosti stretnutia vzdialených kmeň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římá spojovací čára 14"/>
          <p:cNvSpPr/>
          <p:nvPr/>
        </p:nvSpPr>
        <p:spPr>
          <a:xfrm>
            <a:off x="1619280" y="17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5"/>
          <p:cNvSpPr/>
          <p:nvPr/>
        </p:nvSpPr>
        <p:spPr>
          <a:xfrm>
            <a:off x="1246320" y="2278080"/>
            <a:ext cx="82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poznanie kultúry a zvykov týchto kmeňov je dôlež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1241280" y="2965320"/>
            <a:ext cx="828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viac ako na forme záleží na osobách, ktoré komunikujú správ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ovéPole 5"/>
          <p:cNvSpPr/>
          <p:nvPr/>
        </p:nvSpPr>
        <p:spPr>
          <a:xfrm>
            <a:off x="1231920" y="3708360"/>
            <a:ext cx="82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kultúra</a:t>
            </a:r>
            <a:r>
              <a:rPr b="0" lang="en-US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 komunik</a:t>
            </a:r>
            <a:r>
              <a:rPr b="0" lang="sk-SK" sz="2000" spc="-1" strike="noStrike">
                <a:solidFill>
                  <a:srgbClr val="ffffff"/>
                </a:solidFill>
                <a:latin typeface="Calibri Light"/>
                <a:ea typeface="Calibri Light"/>
              </a:rPr>
              <a:t>ácie a pozna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římá spojovací čára 14"/>
          <p:cNvSpPr/>
          <p:nvPr/>
        </p:nvSpPr>
        <p:spPr>
          <a:xfrm>
            <a:off x="1619280" y="23320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římá spojovací čára 14"/>
          <p:cNvSpPr/>
          <p:nvPr/>
        </p:nvSpPr>
        <p:spPr>
          <a:xfrm>
            <a:off x="1619280" y="306864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římá spojovací čára 14"/>
          <p:cNvSpPr/>
          <p:nvPr/>
        </p:nvSpPr>
        <p:spPr>
          <a:xfrm>
            <a:off x="1628640" y="378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18:11:19Z</dcterms:created>
  <dc:creator>Ada</dc:creator>
  <dc:description/>
  <dc:language>en-US</dc:language>
  <cp:lastModifiedBy>Windows User</cp:lastModifiedBy>
  <dcterms:modified xsi:type="dcterms:W3CDTF">2019-10-24T10:39:24Z</dcterms:modified>
  <cp:revision>166</cp:revision>
  <dc:subject/>
  <dc:title>HODNOTENIE – V.I.P. ALEBO ČIERNY PASAŽIER NA LINKE BRATISLAVA-BRUSEL</dc:title>
</cp:coreProperties>
</file>